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0F1-1903-4E5C-8DA3-D09D71E17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38CE-8EED-4550-BD80-E7E1C67F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7966-C078-4B20-8F7E-A9466557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0617-97A2-4B71-95EB-EC8A79590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D7E-8CCC-4FAF-8D1A-4C2C9CF7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AAC1-CF3E-408A-B3A3-449624326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2C7-B453-445A-BDEE-58705661D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6150-63D1-4291-8FD7-87D4EB09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7F1-5C2A-47A1-9947-7DA50BB4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EC5-6C35-41F6-A34F-32B5486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21B-3E5C-42B0-99EA-07D2197B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736-5CB6-4A29-84F4-BEE89B1D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245B-5AE8-4C39-BF11-3465590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043-6DB0-4B96-A7EA-4B3689C4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067-921D-4A98-8718-337F99BD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FF8-1381-421D-A230-78DBB86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108-9575-439F-971B-AE781B34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AA6-28AC-42A4-A6FD-6D91EC37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D73-B5E3-4CD3-8DDC-A770EFE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F3C-CBAB-49A5-9B2C-27E51A1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41EA-6194-4510-B55A-8FF20BA1D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 Rising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9" name="Picture 4" descr="Subduction diagram.jpg"/>
          <p:cNvPicPr/>
          <p:nvPr/>
        </p:nvPicPr>
        <p:blipFill>
          <a:blip r:embed="rId1"/>
          <a:stretch/>
        </p:blipFill>
        <p:spPr>
          <a:xfrm>
            <a:off x="838080" y="1393920"/>
            <a:ext cx="7548840" cy="4549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838080" y="601992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by Scott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diagram with the 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ausal processes for magma movement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905120"/>
          <a:ext cx="9144000" cy="4267080"/>
        </p:xfrm>
        <a:graphic>
          <a:graphicData uri="http://schemas.openxmlformats.org/drawingml/2006/table">
            <a:tbl>
              <a:tblPr/>
              <a:tblGrid>
                <a:gridCol w="3733920"/>
                <a:gridCol w="5410080"/>
              </a:tblGrid>
              <a:tr h="11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Factors impac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Aspects of the magma or surrounding lithospher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ty of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oyancy of the magma/lithospher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1-01-13T19:50:15Z</dcterms:modified>
  <cp:revision>316</cp:revision>
  <dc:subject/>
  <dc:title>PowerPoint Presentation</dc:title>
</cp:coreProperties>
</file>